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CA8-D8FB-42A0-85CA-00DCACE9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627-1624-4DAC-9C20-A6ECCF63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1E1-657C-4CA3-9F44-BB3008D8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1789-7C05-4CEE-B56A-682ACB39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3B8-5FFA-4911-9EC5-9A79CB91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CF6-C42B-4536-998C-EEE1AFD2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1A84-DE1F-4064-A1D3-BE87BD13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DE5-5823-42C9-AAC4-78D7EB6A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8D7-D615-422C-8CE1-6F6EA0D6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12D-8FDD-4E3B-96AB-D2A470E5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93A-AD45-4222-8B8B-646B6BD6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BCF-D29A-45BF-87D3-E49BA31C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B36A-367F-4924-80CA-D8E080B3C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943696/student_view0/chapter10/animation__second_messenger__camp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olcweb/cgi/pluginpop.cgi?it=swf::535::535::/sites/dl/free/0072437316/120109/bio46.swf::Mechanism%20of%20Steroid%20Hormone%20Action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the Endocrin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Hormone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schoolworkhelper.net/2010/07/the-endocrine-system-function-and-structure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35160" y="1981080"/>
            <a:ext cx="48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protein horm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943696/student_view0/chapter10/animation__second_messenger__camp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ster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79800" y="1981080"/>
            <a:ext cx="4784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previous slide from: http://www.bing.com/health/article/mayo-126596/PraderWilli-syndrome?q=prader-willi+syndrome&amp;qpvt=prader+willi+syndro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es hormones that control other endocrine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and stores hormones, and is under the nervous control of the hypo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ualberta.ca/~somji/pituitary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30400" y="1981080"/>
            <a:ext cx="508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eri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es and releases hormones produced by the hypothalamus (ADH and oxytoc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eri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es and stores and releases hormones (growth hormone, TSH, ACTH, prolactin, MSH, FSH and L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easing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hypo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the release of hormones from the anterior pitu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pam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hibits secretion of prolac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ostat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s secretion of somatotropin (growth horm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regulators produced by cells in one part of the body that affect cells in another part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ocrine 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ecreted by endocrine glands directly into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next slide from: http://scienceblogs.com/clock/2006/06/bio101_lecture_6_physiology_re.p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1760" y="609480"/>
            <a:ext cx="3660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vs. Nerv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ystems integrate and control organs and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ous system helps body to adj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ick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 system maintains control ov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nger period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target hormon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 many cells throughout the body, e.g., growth horm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rget hormo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fect specific cells or tissues, e.g., 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oid vs. Protein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 in their chemical structure and thei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oid hormones are made from cholesterol, e.g., testosterone, es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hormones have chains of amino acids and are water-soluble, e.g.,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oid Hormone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nekaeportfolio.blogspot.com/2011/02/identifying-classes-of-hormones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84360" y="1981080"/>
            <a:ext cx="417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steroid hormone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olcweb/cgi/pluginpop.cgi?it=swf::535::535::/sites/dl/free/0072437316/120109/bio46.swf::Mechanism%20of%20Steroid%20Hormone%20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0:21:50Z</dcterms:created>
  <dc:creator>rubina khan</dc:creator>
  <dc:description/>
  <dc:language>en-US</dc:language>
  <cp:lastModifiedBy>rubina khan</cp:lastModifiedBy>
  <dcterms:modified xsi:type="dcterms:W3CDTF">2011-12-12T22:41:37Z</dcterms:modified>
  <cp:revision>32</cp:revision>
  <dc:subject/>
  <dc:title>Importance of the Endocrine System</dc:title>
</cp:coreProperties>
</file>